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E414-21C6-4508-8661-957714828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ADB7-305B-4A82-A7FA-FEC0EA1D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9125-683F-4F5E-91BB-D44C7770B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7D8A-257E-41DA-91F3-72D4FD0DA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0AC5-B368-42DB-8546-2881BB70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287C-065A-461F-BDB0-15E1568D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71BF-6F4B-4510-95DB-9E31F769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19AD-19E9-47E0-AFC2-2454D142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C4F0-1630-4C3D-8D4B-EB3E19F5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0141-AF35-4C6B-8BAE-6E96E6E6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4905-91CC-4669-840B-2391721F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7490-4FDA-4AB6-8462-86AFC084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F4F3-C2CA-4FEE-8931-47A784BEA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600200"/>
            <a:ext cx="5791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Jokerman LET"/>
              </a:rPr>
              <a:t>Movie Poste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143000" y="3200400"/>
            <a:ext cx="1800360" cy="2533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638680" y="3276720"/>
            <a:ext cx="2067120" cy="2209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400800" y="304920"/>
            <a:ext cx="1838160" cy="15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ie Po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ertis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 to persuade you to see the mov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olors, fonts to reflect the mood or tone of the mov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chy slogans to get your 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4648320"/>
            <a:ext cx="1778040" cy="1726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629400" y="4572000"/>
            <a:ext cx="138276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66680" y="53352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acteristics of a Good Movie Po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1600200"/>
            <a:ext cx="647676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le – should jump out / easy to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s/Names of Actors or Act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s/objects properly framed (does the way they are displayed convey a message about them or a movie 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s the mood of the mov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use of color and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y slo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629400" y="3809880"/>
            <a:ext cx="17431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95200" y="380880"/>
            <a:ext cx="4008600" cy="5639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745160" y="228600"/>
            <a:ext cx="3911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09480" y="914400"/>
            <a:ext cx="3649680" cy="5400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827600" y="838080"/>
            <a:ext cx="3668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52600" y="609480"/>
            <a:ext cx="3539880" cy="5243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029200" y="533520"/>
            <a:ext cx="37530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3546360" cy="5262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3597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861840" y="609480"/>
            <a:ext cx="3594240" cy="5334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952880" y="533520"/>
            <a:ext cx="37483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3963960" cy="5553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619520" y="304920"/>
            <a:ext cx="37083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04:18:30Z</dcterms:created>
  <dc:creator>Patrick J. Mooney</dc:creator>
  <dc:description/>
  <dc:language>en-US</dc:language>
  <cp:lastModifiedBy>Patrick J. Mooney</cp:lastModifiedBy>
  <dcterms:modified xsi:type="dcterms:W3CDTF">2012-03-06T14:45:40Z</dcterms:modified>
  <cp:revision>7</cp:revision>
  <dc:subject/>
  <dc:title>Slide 1</dc:title>
</cp:coreProperties>
</file>